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BC5-4FDA-45C5-A0A6-6AD6FCA9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7F1-EBC3-43A1-BB99-988C2090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E3A-2520-4433-A1BB-4F0E1C3B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BC45-E7FC-463F-B21D-C0AD3C8F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1E88-15FE-4FB5-AA19-19C6E9E4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AC8E-13B8-4660-A1A9-ED8FB74D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2A8F-5BF2-4C7F-B464-107BD0E4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D128-EB3D-4D1F-B24A-6D42E1FD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AAD3-CCDB-4800-8F19-3B23B8BB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BE3E-9C59-4655-B256-4622807C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B552-53BE-4D76-AC63-1341CC3A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7C5-AFD5-43E6-A3F6-5B5F7C4C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D6E5-3939-4D07-A93C-F74EDE4E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EA9D-4E90-448F-9DE6-B20FE065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B97A-9EC3-49E6-9DDA-02B37E1B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4FF3-443B-4DD1-B89B-150C154D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9337-9953-493D-A780-1586D4D7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818-1A27-4A81-85A7-9971B736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DEC-4C44-406E-9BD9-D3DAFEB1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1C2-DC5F-46AE-BEC9-766E3B76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D66-6A26-4DBC-9C5F-9C3A5E09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111-95E9-4375-A10C-3621E300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2C5-9AD9-40B6-8396-16726F7E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403-21F7-4E38-B768-3CF88859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4CC7-E3F4-4291-8666-FCCFB694B92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A27A-B693-43EC-B52D-2FF25AE4A2D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Unit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Kinema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ition: where something is with relation to other objects.  Position must be stated in terms of a______________ .We can choose a point on a line as a reference point and indicate position in terms of + and -.  It is a _______ measurem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ance: how far something travels.  It is a _________ measur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placement: how far something travels and its direction.  It is a __________ measurement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ctor measurement: a quantity that has a __________(size) and a __________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alar measurement: a quantity that has only a ___________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 Interval: The _________ between two clock readings.  The time over which an event occur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ed: how far an object travels per unit _____ that it maintains that speed. (______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locity: tells the speed and __________ of motion.  (_______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_________ Velocity: is how fast an object changed its position in a given time interval.  Found by dividing total displacement by the total time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__________ Velocity: the velocity at a particular instant in time.  It is found by taking the slope of a tangent to a position-time grap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__________ Velocity: when the velocity of an object is the same for all time intervals, ie. the average and instantaneous velocities are the s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23:28:34Z</dcterms:created>
  <dc:creator>district 17</dc:creator>
  <dc:description/>
  <dc:language>en-US</dc:language>
  <cp:lastModifiedBy>Administrator</cp:lastModifiedBy>
  <dcterms:modified xsi:type="dcterms:W3CDTF">2010-09-04T19:00:38Z</dcterms:modified>
  <cp:revision>8</cp:revision>
  <dc:subject/>
  <dc:title>Unit 1</dc:title>
</cp:coreProperties>
</file>